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EA44-B93B-4113-9EFA-A4251658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6C1A-EAD2-49A3-8AD6-96244AC8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509BC-7D53-4B80-B7BC-DF709E57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4B40-CDAB-4464-BFA7-DFB7FD46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1F66-5596-43FB-A9E6-FFF54046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B3A9-4E35-496A-83B8-A88F8B04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BC23-8239-4096-82BE-893879B8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B9F9-A3E2-48FE-8C5C-A2FFBA4E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745D-8FA6-42DE-92B0-C20104B7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001E-74F0-4AD1-9D71-4D75FB0BA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CF55-CCB8-4CCB-8ABA-B8A3F7A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089E-1484-405A-8F2B-04D9AFA2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B9D5-4BC4-4F87-BE10-43BDA97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170A-A48F-41C4-B624-EB02B2DB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AF7C-C261-4BA5-9663-6E2BC511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E7D6-8931-4EA7-B2B8-05ADD991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C35B-CB4F-4E68-AB64-F62BA934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FB6B-FFFF-4134-BDD2-FF36820C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4A1F-6F4B-4794-B402-9EB933D0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EFD42-9B99-4C1D-8692-3BB6B5D0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0416-B835-498A-8FAA-1627F157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F9EDA-DB81-4375-A357-124FC4FD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4C60-5E0B-4DAD-974A-D2B04C67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47F3-E11B-4212-B3C5-C9D9B15D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1E24-5C62-4EAF-8F4D-991BBAB1F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E2C9-0DC3-4732-B651-332ED6484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a47900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dnatutorial.com/ProteinSynthesis.shtml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ncc.gmu.edu/dna/mRNAanim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oadway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Baskerville Old Face"/>
              </a:rPr>
              <a:t>TRANSLA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mino acids carried by tRNA form proteins (the sequence depends on the message carri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nslation i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 Antiqua"/>
              </a:rPr>
              <a:t>Terminator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codon turns off Protein synthe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e pg 303 Fig.12-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ven though there are only 20 amino acids that exist, there are actually 64 possible tRNA molec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4 X 4 X 4 = 64 possible combi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nslati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47900"/>
                </a:solidFill>
                <a:uFillTx/>
                <a:latin typeface="Arial"/>
                <a:hlinkClick r:id="rId2"/>
              </a:rPr>
              <a:t>http://www.dnatutorial.com/ProteinSynthesis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DNA – Its Role in 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Provides directions for the construction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hromosome consist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deoxyribose sugar backb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phosphate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Book Antiqua"/>
              </a:rPr>
              <a:t>4 nitrogenous 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Proteins can be composed of 20 different amino acids. One nitrogen base cannot code for a single 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179280" y="549360"/>
            <a:ext cx="87854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20 amino acids can be accommodated by a triplet code (Three-base code aka “codon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RNA and DNA are similar, except fo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Uracil = Thymine, the sugar ribose, and single stra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Book Antiqua"/>
              </a:rPr>
              <a:t>RNA –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ontrols assembly of amino acids into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Book Antiqua"/>
              </a:rPr>
              <a:t>(See pg 300 Fig. 12-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Book Antiqua"/>
              </a:rPr>
              <a:t>Messenger RNA or mRNA =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arrier molecule, reads the DNA code and carries it to the 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Book Antiqua"/>
              </a:rPr>
              <a:t>Ribosomal RNA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ombines with proteins to form rib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Book Antiqua"/>
              </a:rPr>
              <a:t>Transfer RNA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transfers each amino acid to the ribosome as it is specified by coded messages in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s of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 u="sng">
                <a:solidFill>
                  <a:srgbClr val="000000"/>
                </a:solidFill>
                <a:uFillTx/>
                <a:latin typeface="Book Antiqua"/>
              </a:rPr>
              <a:t>Primers</a:t>
            </a:r>
            <a:r>
              <a:rPr b="1" lang="en-CA" sz="3600" spc="-1" strike="noStrike">
                <a:solidFill>
                  <a:srgbClr val="000000"/>
                </a:solidFill>
                <a:latin typeface="Book Antiqua"/>
              </a:rPr>
              <a:t> (aka Promot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Book Antiqua"/>
              </a:rPr>
              <a:t>Initiators</a:t>
            </a:r>
            <a:r>
              <a:rPr b="0" i="1" lang="en-CA" sz="32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turn protein synthesis on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3200" spc="-1" strike="noStrike">
                <a:solidFill>
                  <a:srgbClr val="000000"/>
                </a:solidFill>
                <a:latin typeface="Book Antiqua"/>
              </a:rPr>
              <a:t>Terminators</a:t>
            </a:r>
            <a:r>
              <a:rPr b="0" i="1" lang="en-CA" sz="3200" spc="-1" strike="noStrike">
                <a:solidFill>
                  <a:srgbClr val="000000"/>
                </a:solidFill>
                <a:latin typeface="Book Antiqua"/>
              </a:rPr>
              <a:t> –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“end protein synthesi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askerville Old Face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DNA molecule “unzips” – by RNA polym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mRNA finds the appropriate p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cytosine = gua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adenine = ura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Once the pairs are joined mRNA moves aw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two original DNA strands rejo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–  </a:t>
            </a:r>
            <a:r>
              <a:rPr b="0" lang="en-CA" sz="3200" spc="-1" strike="noStrike">
                <a:solidFill>
                  <a:srgbClr val="000000"/>
                </a:solidFill>
                <a:latin typeface="Book Antiqua"/>
              </a:rPr>
              <a:t>transcription has been completed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Baskerville Old Face"/>
              </a:rPr>
              <a:t>TRANSCRIP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RNA carries the nitrogen base code to the ribosomes and attaches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anscription 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a47900"/>
                </a:solidFill>
                <a:uFillTx/>
                <a:latin typeface="Arial"/>
                <a:hlinkClick r:id="rId3"/>
              </a:rPr>
              <a:t>http://www.ncc.gmu.edu/dna/mRNAanim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Baskerville Old Face"/>
              </a:rPr>
              <a:t>TRANSLATION</a:t>
            </a:r>
            <a:br>
              <a:rPr sz="4400"/>
            </a:br>
            <a:r>
              <a:rPr b="1" lang="en-CA" sz="2800" spc="-1" strike="noStrike">
                <a:solidFill>
                  <a:srgbClr val="000000"/>
                </a:solidFill>
                <a:latin typeface="Baskerville Old Face"/>
              </a:rPr>
              <a:t>See Fig. 12-18 in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62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 Antiqua"/>
              </a:rPr>
              <a:t>Initiator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odon (AUG) – turns protein synthesi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NA (transfer) picks up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Each tRNA has a specific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 Antiqua"/>
              </a:rPr>
              <a:t>anticod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(exposed nitrogen bases) – </a:t>
            </a: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plimentary to one mRNA co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Baskerville Old Face"/>
              </a:rPr>
              <a:t>TRANSLATION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RNA will attach to tRNA where the codon and anticodon base pairs m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e;  UUU codon of DNA receives an AAA anticodon of t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RNA will place its amino acid in the ribosome and mov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RNA moves along the ribosome and the process known as 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elongation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conti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23:25:42Z</dcterms:created>
  <dc:creator>MattJodi</dc:creator>
  <dc:description/>
  <dc:language>en-US</dc:language>
  <cp:lastModifiedBy>Justin</cp:lastModifiedBy>
  <dcterms:modified xsi:type="dcterms:W3CDTF">2008-04-14T01:12:52Z</dcterms:modified>
  <cp:revision>16</cp:revision>
  <dc:subject/>
  <dc:title>Protein Synthesis</dc:title>
</cp:coreProperties>
</file>